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6.gif" ContentType="image/gif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BFC-5884-433C-873B-B7734C63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66A-6A26-4666-8810-CAB4A30C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703-BD94-4CCF-98A7-34F87ACE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380-82B8-4485-8CC6-01DFCD18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B9C-81D1-400E-BEFD-918154C4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1FF-07B6-464C-BFD1-EE2271C4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493-4199-4E97-B795-33C54829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6DD-5A79-45D4-8962-117B8A17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A7D-9B82-4E3B-955B-ABB7DEBA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145-86D3-479A-9166-90736D59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7EE-F04B-4E9E-8A0C-B9A111CA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EC2-2F1F-4CB6-99EC-E6BB8C7F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20E8-B3AD-406B-AEE3-5768B0385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523880" y="762120"/>
            <a:ext cx="586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уральный мёд</a:t>
            </a:r>
            <a:r>
              <a:rPr b="1" lang="ru-RU" sz="5000" spc="-1" strike="noStrike">
                <a:solidFill>
                  <a:srgbClr val="b12d13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042920" y="2492280"/>
            <a:ext cx="779616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0000"/>
                </a:solidFill>
                <a:latin typeface="Calibri"/>
                <a:ea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48360" y="3357720"/>
            <a:ext cx="30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нова Варв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 класса МБОУ КГО 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. руководитель: Тагакова Людмила Анатол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: Чертан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69040" y="-457920"/>
            <a:ext cx="3806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КГ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ая конференц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 первые открыт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Моя гипотеза подтвердилас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пыты работают, можно при помощи них проверить качество мёда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 работа, надеюсь, заинтересует моих друзей, и они будут проверять мёд, купленный родителями. </a:t>
            </a:r>
            <a:br>
              <a:rPr sz="3600"/>
            </a:br>
            <a:br>
              <a:rPr sz="2800"/>
            </a:b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6156360" y="310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dis2"/>
          <p:cNvPicPr/>
          <p:nvPr/>
        </p:nvPicPr>
        <p:blipFill>
          <a:blip r:embed="rId2"/>
          <a:stretch/>
        </p:blipFill>
        <p:spPr>
          <a:xfrm>
            <a:off x="179280" y="4724280"/>
            <a:ext cx="1646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и научить выбирать настоящий натуральный мёд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Выяснить, как  живут и работают пче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ыяснить строение пчел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Выяснить процесс получения ме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оизвести опыты с медом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чела - великая труженица, приносящая неоценимую пользу и здоровье людям, если я проведу исследование, изучу литературу, то узнаю всё о пчёлах и мёде, смогу дать полезные советы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  продукт пчеловодства -  мё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жизнедеятельность пчё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ои исследования расширят мой кругозо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могут узнать всё о пчелах и продуктах пчеловод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могу дать практические советы, как купить настоящий мёд, а не поддел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щество состоит из единственной матки, нескольких десятков тысяч рабочих пчёл и нескольких сотен трутне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4000" y="4149720"/>
            <a:ext cx="194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троение пче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chelinaya-semya-580x251.jpg"/>
          <p:cNvPicPr/>
          <p:nvPr/>
        </p:nvPicPr>
        <p:blipFill>
          <a:blip r:embed="rId1"/>
          <a:stretch/>
        </p:blipFill>
        <p:spPr>
          <a:xfrm>
            <a:off x="2124000" y="1459080"/>
            <a:ext cx="5112000" cy="22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111\Desktop\картинки мёд\Smailik_pchelka_letit.gif"/>
          <p:cNvPicPr/>
          <p:nvPr/>
        </p:nvPicPr>
        <p:blipFill>
          <a:blip r:embed="rId2"/>
          <a:stretch/>
        </p:blipFill>
        <p:spPr>
          <a:xfrm>
            <a:off x="8337600" y="5877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111\Desktop\картинки мёд\Smailik_pchelka_letit.gif"/>
          <p:cNvPicPr/>
          <p:nvPr/>
        </p:nvPicPr>
        <p:blipFill>
          <a:blip r:embed="rId3"/>
          <a:stretch/>
        </p:blipFill>
        <p:spPr>
          <a:xfrm>
            <a:off x="2340000" y="5950080"/>
            <a:ext cx="80640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111\Desktop\картинки мёд\Smailik_pchelka_letit.gif"/>
          <p:cNvPicPr/>
          <p:nvPr/>
        </p:nvPicPr>
        <p:blipFill>
          <a:blip r:embed="rId4"/>
          <a:stretch/>
        </p:blipFill>
        <p:spPr>
          <a:xfrm>
            <a:off x="250920" y="981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5"/>
          <a:stretch/>
        </p:blipFill>
        <p:spPr>
          <a:xfrm>
            <a:off x="4552920" y="3952800"/>
            <a:ext cx="354168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бочные продукты мёда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оцессе производства мёда возникает четыре основных побочных продукт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к, пыльца, маточное молочко и прополи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C:\Users\111\Desktop\Downloads\293219 (1).jpg"/>
          <p:cNvPicPr/>
          <p:nvPr/>
        </p:nvPicPr>
        <p:blipFill>
          <a:blip r:embed="rId2"/>
          <a:stretch/>
        </p:blipFill>
        <p:spPr>
          <a:xfrm>
            <a:off x="395280" y="2997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11\Desktop\картинки мёд\1481631_6rsy2r.jpeg"/>
          <p:cNvPicPr/>
          <p:nvPr/>
        </p:nvPicPr>
        <p:blipFill>
          <a:blip r:embed="rId3"/>
          <a:stretch/>
        </p:blipFill>
        <p:spPr>
          <a:xfrm>
            <a:off x="1835280" y="4653000"/>
            <a:ext cx="2016000" cy="17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11\Desktop\картинки мёд\1364393257_1381492.png"/>
          <p:cNvPicPr/>
          <p:nvPr/>
        </p:nvPicPr>
        <p:blipFill>
          <a:blip r:embed="rId4"/>
          <a:stretch/>
        </p:blipFill>
        <p:spPr>
          <a:xfrm>
            <a:off x="6588000" y="4437000"/>
            <a:ext cx="210348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111\Desktop\картинки мёд\800px-Weiselzellen_68a-wiki.jpg"/>
          <p:cNvPicPr/>
          <p:nvPr/>
        </p:nvPicPr>
        <p:blipFill>
          <a:blip r:embed="rId5"/>
          <a:stretch/>
        </p:blipFill>
        <p:spPr>
          <a:xfrm>
            <a:off x="4286160" y="2854440"/>
            <a:ext cx="2376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пыты с мёд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00000" y="1557000"/>
            <a:ext cx="60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ящий мёд не скатывается с ложки слишком быстро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стекать непрерывной струйко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дняя капля тянется к лож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м мёде чёрствый хлеб не размок, а остался чёрств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00360" y="3141720"/>
            <a:ext cx="604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пределение воды в мё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685800" y="1508040"/>
            <a:ext cx="1798560" cy="2148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685800" y="3954600"/>
            <a:ext cx="17985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50403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азать мед на бумажке, и на медовой полоске нарисовать что-нибудь химическим карандаш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исунок станет синим, значит мед настоящи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такан с медовой водой капнуть несколько капель й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едовая вода станет синей – мед не настоящ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8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376360" cy="286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539640" y="663480"/>
            <a:ext cx="241308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Биологическая память мё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м тарелку, положим ложку мёда, заливаем водой чуть больше чем мёд. Слегка болтаем по кругу и увидим появление ячеек на поверхности мё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изнак натурального мё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582560" y="4052880"/>
            <a:ext cx="1776600" cy="2109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4859280" y="4052880"/>
            <a:ext cx="1800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7:10:04Z</dcterms:created>
  <dc:creator>111</dc:creator>
  <dc:description/>
  <dc:language>en-US</dc:language>
  <cp:lastModifiedBy>КАБ 10Н</cp:lastModifiedBy>
  <dcterms:modified xsi:type="dcterms:W3CDTF">2024-02-07T08:32:08Z</dcterms:modified>
  <cp:revision>137</cp:revision>
  <dc:subject/>
  <dc:title>Слайд 1</dc:title>
</cp:coreProperties>
</file>